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F9E-0BCE-474D-B61E-9770F4A97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B39-3EF1-455B-A584-5B8EA1E8E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934-AEC9-433F-ADF6-3EBFCFBBD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D742-790F-471E-9146-051AE0F9C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7C975-02A6-4B8A-881B-8763F01E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8C3E-B243-4FC2-8E35-72969BE7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1061D-E84C-4A41-B7F0-0C25C5958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BA89-DAC4-4AC0-9D0F-98FC9111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52502-9608-44ED-A499-7525D49F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BF65A-15D9-4944-88B2-9AF5AA0EB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18FC-8370-4B2D-9787-A977C73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2ACB-8352-4CF1-9629-7994A6AD6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B34F-5500-4EA2-B5DD-146D1FFD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F2A01-0099-42EF-B30E-75DDA572B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B511A-401D-4557-A956-496276473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5118-DA99-4585-8FF6-8955B2CBD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501C0-7BE2-401C-A9DC-EF0257366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5A5C3-65EB-4CB3-941F-BBB52A63B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B577-9D94-4B25-B888-7BA2B9C3B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071A0-AD3F-4495-8C69-C42D403D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0989F-7802-4777-A93C-7F02D378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35D95-9A36-4E3B-B098-40B381D7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32F9-E0BC-4D4F-B535-27BAAD025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B58BF-CE78-4678-A05C-F219546E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955FB-A76E-4031-8754-DE1BEABE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675DE-EFFD-474F-945C-F0D412F7A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47FFC-2CB9-4AAB-8463-4FB6A583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A636D-557C-4A86-AE8A-80FF643C7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3B794-757A-4114-AAE9-1D73CF1BD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AF8AE-3EED-4C02-83B9-6FB3D50C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4B507-E298-4AB2-BFA6-053D61AB0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FB646-008E-4270-96B8-EA7B98E59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CD903-781F-4C89-9207-7D5B82A2C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FAA8-4646-44D0-A474-335993DA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456D6-40AA-4849-9DA0-C3E98CBC8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2C6F3-B169-41E0-A6EE-FE4DD818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809517-8669-41F0-95EE-EDF2494AA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6A5634-CCD6-41D8-8703-987645099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5E713-6331-4DB3-95F1-CDB54872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B557-76FC-4C29-99A2-BD0D80738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A2C5-4AF8-49B5-BC69-B48C1AD64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A9CB53-CB04-4F28-A337-11DE7D2EC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6E9D90-529E-444A-9F54-64F8E2D7A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DF91A-1B51-4534-8C33-8306FC76F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8D62-63EB-4DCE-BA6B-E81620C2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4135-99D4-45E4-A1F3-07D6E3E90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C6504-0574-4ED2-86D8-7CE1C49E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09362B-07CF-457A-A737-ECD4CDED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476CFD-7BA4-480C-8AD9-22055FDF2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14ECDC-9A1E-4853-A795-9D81671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1731-ACC0-4B57-A9CF-FFD4FAC6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97723-5783-40BF-B419-73881AD4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49CFD-E1DA-4DCF-8DB7-6F4BE2F85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29E64A-05F8-4AEF-B630-126F26901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446FD-7636-4D46-A814-CB11067E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FEB6-C87F-4210-B6D7-C2C9A3C0D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E992F9-9281-40AE-85EC-F6BF32CC1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5282-E79E-495E-BB68-0A0342C25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0D01-1E43-4002-8C79-01E040D0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3BD6-3FD2-459C-BAC4-EC167D59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643B-BDC8-4512-BB33-C82F8E0C4E05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EDB12-8E8E-4DEF-87C8-02FF11AF4332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DDCDD-3184-451F-848A-5A1925E6F4B9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83E8-1E88-42FB-BABE-B30CE6FA241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5F4E-0329-4D89-AED2-2A6FCA61BBA1}" type="slidenum">
              <a:rPr b="0" lang="en-U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22160" y="182088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8d3e"/>
                </a:solidFill>
                <a:latin typeface="Verdana"/>
              </a:rPr>
              <a:t>Tests And Examinations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766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eparing for Tests and Exa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3280" y="529920"/>
            <a:ext cx="8183520" cy="45752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epare e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eeping complete notes, reviewing them; focus from the first day is a major factor in tes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rify expec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Know the details – subject, # Qs, format,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bserve and ques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’s important? Save everything for revie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iew chapters before class, review after class; prepare for exams a week prior, SUMMARIZE notes! No distractions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Preparing for Tests and Exams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3280" y="530280"/>
            <a:ext cx="8183520" cy="472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 study team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xchange notes, make up sample Qs, summarize chapte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Get organize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When you get the test, scan it to preview which ones you can answer quickly; pace yourself; determine important of each section by mark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ve quick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on’t panic, answer Qs you know, write what you do know for questions you think you don’t know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read, recheck, and rethin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Read over the test; extra time? Add to Q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trategies for Taking Tests/Exa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03280" y="530280"/>
            <a:ext cx="8183520" cy="465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flect on the purpo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edback on what you’ve mastered in the COURSE O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tance your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on’t exaggerate the pressure of test-tak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prepa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to every class, review notes, study in adva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Join a study te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w strength, ideas, support, and commitment to each o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trategies for Taking Tests/Exa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03280" y="530280"/>
            <a:ext cx="8183520" cy="46512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act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ke up Qs, test yourself and other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erc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 for a long walk or job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reduces str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ce yourself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last minute cramming to reduce stress; have everything ready, have breakfast, be ear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eathe and relax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lming; deep breath, hold 2-3sec, release slow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8d3e"/>
                </a:solidFill>
                <a:latin typeface="Verdana"/>
              </a:rPr>
              <a:t>Strategies for Taking Tests/Exam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agine su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reates a positive state of mi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self-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ll yourself positive thing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examples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c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the subj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on’t daydrea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e objec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ok, without bias, after the test at your grade, your preparation and anxiety levels, and your answ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how can you improve for next tim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03280" y="4983120"/>
            <a:ext cx="81835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ass Work </a:t>
            </a:r>
            <a:r>
              <a:rPr b="1" lang="en-US" sz="3600" spc="-1" strike="noStrike">
                <a:solidFill>
                  <a:srgbClr val="ff8d3e"/>
                </a:solidFill>
                <a:latin typeface="Wingdings"/>
                <a:ea typeface="Wingdings"/>
              </a:rPr>
              <a:t>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vity #7 – p7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ing Back Questions #1, 2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mmative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om the activities in ch 4, I have learned…(about myself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 can use this information outside of career class by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7T12:09:33Z</dcterms:created>
  <dc:creator>Biega, Sarah</dc:creator>
  <dc:description/>
  <dc:language>en-US</dc:language>
  <cp:lastModifiedBy>Biega, Sarah</cp:lastModifiedBy>
  <dcterms:modified xsi:type="dcterms:W3CDTF">2012-06-07T13:08:19Z</dcterms:modified>
  <cp:revision>6</cp:revision>
  <dc:subject/>
  <dc:title>Tests And Examinations</dc:title>
</cp:coreProperties>
</file>